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6F4-ECC0-4110-9A31-FB261C24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D1BE-A74B-4B43-82FC-F4FCAC54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5F4-DDD6-4A51-B6AB-8D36CE20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4165-2CEA-47AE-87F2-491FFA71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629-DD9B-404C-A7D2-F4E48664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0044-DFC0-4063-9E8B-7C94D544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FA14-D48A-4B44-929B-06FD44CE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37C3-F692-47D0-8CB3-348CB58E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498-EDE2-4FCC-A34A-D9653C4A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7A88-E543-427A-8753-CAE4E3C6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64C-7E33-462E-83D9-B77CDB39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008A-E760-4176-8C36-740C54B5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91B8-2C26-40F4-9BEC-7983BB66D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3720" y="228600"/>
            <a:ext cx="51814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our schoo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4572000"/>
            <a:ext cx="4572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by jourd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3" name="logo1" descr=""/>
          <p:cNvPicPr/>
          <p:nvPr/>
        </p:nvPicPr>
        <p:blipFill>
          <a:blip r:embed="rId1"/>
          <a:stretch/>
        </p:blipFill>
        <p:spPr>
          <a:xfrm>
            <a:off x="3662280" y="2362320"/>
            <a:ext cx="181944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 tea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rs Willi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 Da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rs Rob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 Dix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 J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 St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 Har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 Matth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 J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 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 Th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r rob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 At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.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mony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w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 pa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t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school is Glenb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primary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8:20:42Z</dcterms:created>
  <dc:creator>Glenboi</dc:creator>
  <dc:description/>
  <dc:language>en-US</dc:language>
  <cp:lastModifiedBy>Glenboi</cp:lastModifiedBy>
  <dcterms:modified xsi:type="dcterms:W3CDTF">2009-09-30T08:49:24Z</dcterms:modified>
  <cp:revision>3</cp:revision>
  <dc:subject/>
  <dc:title>PowerPoint Presentation</dc:title>
</cp:coreProperties>
</file>